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420-F5C4-4A22-941C-56E85BFC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B4E-DDB9-4848-A442-3E72281A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DAC-0549-4431-89EA-A3EBA6BF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F35-7F16-43B4-9407-74948578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650-831F-426D-964C-0D200C3B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3F3-9C02-422D-B37F-0765A807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72C-214D-4302-9B74-3C1C6F26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E0F-19C0-464C-A94F-2C2EF1C7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050-9CAA-4036-8DEC-493999A0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05A-0D82-449F-8F3A-FDB8DC21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5C7-30D1-4D70-8A6D-D977EE6A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FC2-25C6-4625-BDC6-69895CB6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2971-52E0-49B7-9E06-E779046499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wotourism.com/pizza-delicious-specialities-foods-from-italy/pizza-delicious-specialities-foods-from-italy-various-taste-of-pizza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4648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Las Comidas!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Por: Morgan Fr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Pizza, Delicious Specialities Foods from Italy - Special Foo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304920"/>
            <a:ext cx="2743200" cy="240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20090308pancakes.jpg"/>
          <p:cNvPicPr/>
          <p:nvPr/>
        </p:nvPicPr>
        <p:blipFill>
          <a:blip r:embed="rId3"/>
          <a:stretch/>
        </p:blipFill>
        <p:spPr>
          <a:xfrm>
            <a:off x="152280" y="1523880"/>
            <a:ext cx="3276720" cy="2183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581280" y="31240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010280" y="4038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0" y="3962520"/>
            <a:ext cx="2666880" cy="197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276720" y="1447920"/>
            <a:ext cx="2743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ara el Desayuno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3276720" cy="22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760320"/>
            <a:ext cx="3200400" cy="2144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3962520" cy="1905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81280" y="1592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5440" y="1179360"/>
            <a:ext cx="169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a el desayuno me gusta comer el totsada con meil y caf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304812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 el desayuno me gusta comer panqueques con jarabe 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59436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 el desayuno me gusta comer tortilla de queso y ja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2133720" cy="2013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09680" y="495288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 el desayuno me gusta beber el jugo de naranj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743200" y="3276720"/>
            <a:ext cx="1905120" cy="1427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3429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 el desayuno me gusta comer el pastel de caf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l Amuerzo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BLT Sandwich"/>
          <p:cNvPicPr/>
          <p:nvPr/>
        </p:nvPicPr>
        <p:blipFill>
          <a:blip r:embed="rId1"/>
          <a:stretch/>
        </p:blipFill>
        <p:spPr>
          <a:xfrm>
            <a:off x="152280" y="1219320"/>
            <a:ext cx="2895840" cy="1930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22860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Para el amuerzo me gusta comer el tocino lechuga tomate bocadill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2933640" cy="208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5680" y="114300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Para el amuerzo me gusta comer las papas frit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010280" y="4495680"/>
            <a:ext cx="1905120" cy="222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53080" y="373392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Para el amuerzo me gusta beber chocolate con lech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28600" y="43434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365760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Para el amuerzo me gusta comer ensalada Caes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505320" y="2514600"/>
            <a:ext cx="2149200" cy="2476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05320" y="541008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"/>
              </a:rPr>
              <a:t>Para el amuerzo me gusta comer las manza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l Cena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5181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ra el cina me gusta beber cranberry y el jugo de mang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667240" cy="1779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24382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ra el cena me gusta comer bistec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72200" y="3808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48520" y="236232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ra el cena me gusta comer puré de papas con grav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2324160" cy="196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71800" y="3733920"/>
            <a:ext cx="33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ra el cena me gusta co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as judías ver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095880" y="3809880"/>
            <a:ext cx="2619360" cy="1905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477120" y="586728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ra el cena 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gusta comer l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alsa de canber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52280" y="4038480"/>
            <a:ext cx="1785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l Postre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6019560"/>
            <a:ext cx="68580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2362320" cy="2225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304920"/>
            <a:ext cx="1676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ara el postre comer masa de galletas de hel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0" y="609480"/>
            <a:ext cx="1932120" cy="2895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9200" y="152388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ara el postre 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gusta beber </a:t>
            </a:r>
            <a:r>
              <a:rPr b="1" lang="es-ES" sz="1600" spc="-1" strike="noStrike">
                <a:solidFill>
                  <a:srgbClr val="00ff00"/>
                </a:solidFill>
                <a:latin typeface="Arial"/>
              </a:rPr>
              <a:t>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00"/>
                </a:solidFill>
                <a:latin typeface="Arial"/>
              </a:rPr>
              <a:t>chocolate bati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9:55Z</dcterms:created>
  <dc:creator>fryemor</dc:creator>
  <dc:description/>
  <dc:language>en-US</dc:language>
  <cp:lastModifiedBy>fryemor</cp:lastModifiedBy>
  <dcterms:modified xsi:type="dcterms:W3CDTF">2012-04-05T17:17:16Z</dcterms:modified>
  <cp:revision>4</cp:revision>
  <dc:subject/>
  <dc:title>Las Comidas!</dc:title>
</cp:coreProperties>
</file>